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95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78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95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8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3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51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9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3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51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95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78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78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95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8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78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78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95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95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8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00808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"/>
          <p:cNvSpPr/>
          <p:nvPr/>
        </p:nvSpPr>
        <p:spPr>
          <a:xfrm flipH="1">
            <a:off x="761760" y="6095880"/>
            <a:ext cx="838188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8"/>
          <p:cNvSpPr/>
          <p:nvPr/>
        </p:nvSpPr>
        <p:spPr>
          <a:xfrm>
            <a:off x="0" y="152280"/>
            <a:ext cx="6094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9"/>
          <p:cNvSpPr/>
          <p:nvPr/>
        </p:nvSpPr>
        <p:spPr>
          <a:xfrm>
            <a:off x="614880" y="6275520"/>
            <a:ext cx="245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trepreneurial Finance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5th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delman and Ma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10"/>
          <p:cNvSpPr/>
          <p:nvPr/>
        </p:nvSpPr>
        <p:spPr>
          <a:xfrm>
            <a:off x="6705720" y="6103800"/>
            <a:ext cx="228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©2010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1"/>
          <p:cNvSpPr/>
          <p:nvPr/>
        </p:nvSpPr>
        <p:spPr>
          <a:xfrm>
            <a:off x="415296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1-</a:t>
            </a:r>
            <a:fld id="{E86C8464-DC6A-4A62-80B5-F8602E51A5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hapter 11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al Fi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ypes of Insuranc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fe insur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method of transferring risk from the insured to the insurance company. Two basic types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rm insur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sumes that you pay the premium for pure life insur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man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ole-life insur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llocates part of the premium to building equity or cash value that can be used upon retirement or borrowed against in case of an emergenc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manent and whole-life insurance vari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iversal Life Insur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policy where purchasers set the premium and the death benefit themselv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ariable life insur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llows the individual to buy insurance and at the same time make choices among investment optio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ypes of Insurance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ealth insur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purchased to alleviate the cost of an illness or other health proble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ealth Maintenance Organizations (HMO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se their doctors, specialists and hospit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ferred Provider Organizations (PPO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oice of doctors, hospitals, laboratories and medical facilities within PPO net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dica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federal health insur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itizens 65 or 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ability for at least 24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ypes of Insurance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edicare 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re has four distinct pa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 A covers most expenses and the hospital if medically necessar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 B helps cover doctor services, outpatient care and other items not covered in Part A. Requires monthly premi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 C consists of Medicare Supplemental insurance plans or Medicare Advantage Plans that provide coverage not covered by Part A &amp; 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 D is federal government’s prescription drug progr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ypes of insurance 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ability insur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purchased to replace lost income when an employee is unable to do the job due to a physical or mental handica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ng-term ca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ur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vides for all of the assistance one needs if one has a chronic illness or disability for an extended period of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ability insur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used to transfer the risk of property damage and personal injury that might result from your business operation or individual a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inancial Planning Goals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chieve financial success in life, we mu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blish goals that are realistic and obtain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gin with the acquisition stage of capital accumu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rve capital by investing in vehicles that provide us a return greater than the inflation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 individual tolerance for ris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e capital through retirement income or estate 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vestments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990720"/>
            <a:ext cx="7696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estment vehic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the specific financial instruments that we use to generate growth and inco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h equival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rtificates of depos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ual fu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 e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cious met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sh equival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liquid assets that are invested in savings accounts or brokerage money market accou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ey market consists of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easu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nker’s accept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rtificates of depos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urchase agre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vestment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rtificates of depos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re promissory notes whereby a bank promises to pay the purchaser the principal amount plus interest after a stipulated period of ti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vestment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contractual agreements that are made between a borrower and a lender of financial capi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. S. Treasury b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-bi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-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deral b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nicipal b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l revenue b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l obligation b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porate bon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vestment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earning Objectives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 the overall nature of risk as it pertains to both individuals and busine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inguish between speculative and pure r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the programs employed by individuals and businesses in managing r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 the role that insurance plays in the transfer of r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 the role of capital accumulation in achieving financial su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. S. Treasury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-bil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or treasury bills) are risk-free investments that mature in less than one year, typically in three or six month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-not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bonds that mature in 10 years or less, typically 10 years, 5 years and 2 yea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deral bon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ature in periods that are greater than 10 years and range up to 30 yea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vestment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8377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nicipal bo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issued by a government agency other than the federal gover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neral revenue bon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issued to build specific projects for the municipality that will use the income from the project to pay the bondhol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neral obligation bon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used to build projects that do not normally generate revenue such as public schools and road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vestment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6212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rporate bo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issued by a public corporation that wants to borrow money to invest in assets that will help it earn revenu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cured deb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fers to the fact that the corporation pledges specific assets to guarantee the bon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the bond is not backed by secured debt, it is referred to as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bent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benture bondholders have a claim on the remaining assets of a compan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vestment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nd terminolo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r 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ce value or principal value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the bon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omination of $1,000, paid to the bondholder at maturity (the due date of the bond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upon r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uoted rate or stated rate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the rate of interest that the issuer agrees to pay to the lender on an annual basi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rrent market interest r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prevailing rate in the market on the date we decide to sell the bo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vestment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nd terminolog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mium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ds that are sold at a value above par ($1,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count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ds that are sold at a value below par ($1,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unk bond (high-income yielding)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orporate bond having a rating of  ‘B’ or less (this bond by definition is a high-risk invest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vestment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nd val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urrent interest rates, find the present value of the bond’s interest payments paid over the remaining life of the bo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urrent interest rates, find the present value of the $1,000 maturity value (par) of the bo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the two together to get the price of the bo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vestment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on sto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issued by public or private corporations to raise financial capit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wners of corp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tes for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or may not pay a divid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vestment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 terminolo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r 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n arbitrary dollar amount that is used for accounting purposes to determine the number of shares of stock that have been sold by the corpor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stock is the total stockholder’s equity that is carried on the corporate balance sheet. Contains three fact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k at p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itional paid-in 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ained earning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vestment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762120" y="1447560"/>
            <a:ext cx="76960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 terminolog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vestment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0" name="Group 6"/>
          <p:cNvGrpSpPr/>
          <p:nvPr/>
        </p:nvGrpSpPr>
        <p:grpSpPr>
          <a:xfrm>
            <a:off x="762120" y="1828800"/>
            <a:ext cx="8076960" cy="1170000"/>
            <a:chOff x="762120" y="1828800"/>
            <a:chExt cx="8076960" cy="1170000"/>
          </a:xfrm>
        </p:grpSpPr>
        <mc:AlternateContent>
          <mc:Choice xmlns:a14="http://schemas.microsoft.com/office/drawing/2010/main" Requires="a14">
            <p:sp>
              <p:nvSpPr>
                <p:cNvPr id="101" name="Object 5"/>
                <p:cNvSpPr txBox="1"/>
                <p:nvPr/>
              </p:nvSpPr>
              <p:spPr>
                <a:xfrm>
                  <a:off x="762120" y="2425680"/>
                  <a:ext cx="8076960" cy="57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ook value per share of common stock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Total  common  stockholder's  equity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Number  of  shares  of  common  stock  outstanding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2" name="TextBox 5"/>
            <p:cNvSpPr/>
            <p:nvPr/>
          </p:nvSpPr>
          <p:spPr>
            <a:xfrm>
              <a:off x="1154160" y="1828800"/>
              <a:ext cx="3277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ook value per shar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TextBox 8"/>
          <p:cNvSpPr/>
          <p:nvPr/>
        </p:nvSpPr>
        <p:spPr>
          <a:xfrm>
            <a:off x="1143000" y="350532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ket 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price at which the owners of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res are buying and selling the stock at the time that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re is actually trad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9548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s affecting market value of a share of stoc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ly and demand for sh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ual earnings and anticipation of earn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 value of stock and number of shares outsta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l economic con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vestment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earning Objective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and determine which investment vehicles to select in order to accumulate and preserve capital efficien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 the importance of retirement plann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inguish between the various retirement programs and strategies available to the business owner and the individ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 the importance that estate planning plays for the individual and business owner in the transfer of weal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09548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ferred sto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issued by a corporation to raise financial capital but it occupies an intermediate position between common stock and b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si-owners of corp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voting righ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aranteed a specific return on investment if corporation pays a divid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vestment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s of preferred stoc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mulative preferred sto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the following important featu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the corporation decides to pay a dividend, the preferred stockholder will receive back dividends, or dividends in arrea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vertible preferred sto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preferred stock that may be exchanged for shares of common stock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able preferred sto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preferred stock that can be called back by the company at some specified pri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vestment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 terminolog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vid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payment made by the corporation to each shareholder of a class of sto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vidends are paid on a per-share ba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ferred stock dividends are paid first, the remainder is paid to common sharehold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vestment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0948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lvl="1" marL="601560" indent="-2314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has 1 million shares of common and 10,000 shares of $100, 7% preferred stock, and declares a $1 million dollar divid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vestment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4" name="Group 5"/>
          <p:cNvGrpSpPr/>
          <p:nvPr/>
        </p:nvGrpSpPr>
        <p:grpSpPr>
          <a:xfrm>
            <a:off x="838080" y="2438280"/>
            <a:ext cx="8077320" cy="3289320"/>
            <a:chOff x="838080" y="2438280"/>
            <a:chExt cx="8077320" cy="3289320"/>
          </a:xfrm>
        </p:grpSpPr>
        <mc:AlternateContent>
          <mc:Choice xmlns:a14="http://schemas.microsoft.com/office/drawing/2010/main" Requires="a14">
            <p:sp>
              <p:nvSpPr>
                <p:cNvPr id="115" name="Object 1028"/>
                <p:cNvSpPr txBox="1"/>
                <p:nvPr/>
              </p:nvSpPr>
              <p:spPr>
                <a:xfrm>
                  <a:off x="838080" y="2971440"/>
                  <a:ext cx="8077320" cy="275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Total dividend 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 Total preferred dividend 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Total common stock dividend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Total common stock dividend 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 Total dividend - Total preferred dividend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Total common stock dividend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 $1,000,000 -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$7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0,000 preferred shares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Total common stock dividend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$1,000,000-$70,00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Total common stock dividend 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 $930,00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ommon stock dividend per share 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Total common stock dividend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Total number of shares of common stock outstanding</m:t>
                              </m:r>
                            </m:den>
                          </m:f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ommon stock dividend per share 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$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3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00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0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0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hares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$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93</m:t>
                          </m:r>
                          <m:r>
                            <m:rPr>
                              <m:lit/>
                              <m:nor/>
                            </m:rPr>
                            <m:t xml:space="preserve"> per share of common stock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16" name="TextBox 4"/>
            <p:cNvSpPr/>
            <p:nvPr/>
          </p:nvSpPr>
          <p:spPr>
            <a:xfrm>
              <a:off x="1066680" y="2438280"/>
              <a:ext cx="502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vidends are calculated as follow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tual fu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companies that are involved in collecting the funds of investors and using these funds to purchase large blocks of stocks, bonds, or other investment vehic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fund is established with a specific goal and risk objectiv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vestment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vestment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s of mutual f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owth fun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vest primarily in common stock of publicly held corporations and have capital appreciation as their objectiv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come fun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pecialize in corporate and government bond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owth and income fun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lanced fun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invest in both stocks and bond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95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s of mutual fund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tual fund fami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n investment group that may have mutual fund portfolios in all of the preceding categori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-load fun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o not charge commissions on the amount invest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ad fun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arge a commission on the initial investment, but have no sales charges when you sell the shar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vestment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s of mutual fund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lobal and international fun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funds that invest in stocks and bonds of companies primarily outside of the United Stat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ney market fun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imarily invest in short-term, highly liquid investments such as CDs, short-term government treasuries, commercial paper, repurchase agreements, and banker’s acceptan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vestment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vestment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s of mutual fund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l est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n investment in land and building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wner-occupied residential real est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ny kind of building in which people liv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 limited by law to your primary residence and one additional vacation hom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n-owner–occupied residential real est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property that can be leased by the owner to the tenant for the purpose of generating incom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erty may be in the form of houses, apartments, motels, or hote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 e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mercial real est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both land and improved property that is used by the owner to generate incom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s are commercial office buildings, shopping centers, factories, and warehou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vestment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Risk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uncertainty of future outc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ulative ris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at in which there is a possible gain or los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sur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re ris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volves only a chance of loss or experiencing a theft or fi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ur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095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 e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l estate investment trusts (REIT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vide the investor with the opportunity to participate in the commercial and nonresidential real estate marke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EIT is a pooling of individual investor funds, much like a mutual fun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vestment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vestment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cious met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ll into the area of commodity trad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are primarily gold, silver, and platin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ed to be hedges against infla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llecti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items that become valuable or appreciate with time because of their scarc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s include coins, paintings, sculptures, antiques, stamps, and even baseball cards and comic book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vestment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ort-Term Investment Strateg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cl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ying stock on mar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ling sh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 tr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ng-Term Investment Strateg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cl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y and h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llar cost aver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ension Planning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nsion plann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ists of making plans to guarantee a system of conserving future income for the time when you choose to retire or are forced into retirement due to circumstances beyond your contr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main sources of retirement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cial 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loyee Sponsored Retirement Pl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sonal saving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ension Planning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s of retirement pla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tribution-oriented plan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benefits to the retiree based on the account balance that has been accumulated during the working life of the pension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nefit-oriented pla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vide a defined benefit to the retiree at retirement, which is generally a percentage of the compensation paid to the employee during the last several years of employment and the total term of employment. An example would be military retirement p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bined pla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retirement plans designed by individuals or employe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erment of salaries into a retirement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loyer contributions into a retirement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ension Planning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ividual retirement accounts, or IR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re plans that allow us to contribute current annual income into retirement accou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ductible I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-deductible I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th I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ucational I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ension Planning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ension Planning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040" y="914400"/>
            <a:ext cx="75913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ductible IR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those in which you can contribute pretax dollars up to an amount specified by current law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762120" y="4800600"/>
            <a:ext cx="11199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ndeductible IR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llow you to contribute the s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unts as do deductible IRAs, but the contribution 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-tax dolla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both of the above, returns accumulate tax-fre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til withdraw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Object 10"/>
          <p:cNvGraphicFramePr/>
          <p:nvPr/>
        </p:nvGraphicFramePr>
        <p:xfrm>
          <a:off x="2666880" y="2057400"/>
          <a:ext cx="3772080" cy="2476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057400"/>
                    <a:ext cx="377208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6960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th IR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ll allow you to contribute up to $5,000 of after-tax dollars by 2008 as shown in Table 11-2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funds are held in the account for at least five years, there are no taxes du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r original contributions can be withdrawn tax-free at any tim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roll a current IRA into a Roth IRA provided you pay tax on current I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withdraw $10,000 tax-free and penalty-free to purchase first home if IRA is more than 5 years o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ension Planning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th IRA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have age limit with regard to mandatory withdraw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ditional IRAs have an age 70 1/2 mandatory withdrawal age lim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gains are tax-free forev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th IRAs can be passed on to heirs tax-fr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ension Planning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Risk Criteria for an Insurable Loss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tial losses must be reasonably predic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ss must be accident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ss should be beyond the control of the insur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ss should not be catastrophic to the insurance compan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verdell Education Savings Account (Educational IRA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ow for an non-deductible contribution of up to $2,000 for any child under the age of 18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me accumulates tax-free and remains tax-free as long as it is used for the child’s higher educational expen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ds must be used before the student is 3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ccount can be transferred between family member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ension Planning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ension Planning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01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tion 529 pla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clude both prepaid tuition and savings pl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ds in both prepaid and savings plans grow tax-fr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ibution limit depends on plan and vary from state to state ($100,000 to $305,000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drawals are tax-free if used for qualified expens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ition, fees, and room and board at qualified higher educational institutio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ounts can be assigned to any family members including cousi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alty to non-qualified withdrawals is that withdrawal is taxed as ordinary income and there is a 10 percent penal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plified Employee Pension (SEP) Pla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pension plans that are funded by employ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loyer-establ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employees must ag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n for self-emplo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ibutions can be up to the lesser of $46,000 or 25 percent of the participants’ compensa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ension Planning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ension Planning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591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PLE 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SIMPLE (Savings Incentive Match Plan for Employees) is a pension plan established by an employer who has fewer than 100 employees. Current legislation defines contribution limits as shown bel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 employee contribution dollar for dollar to 3 percent of sala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um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0,500 for 2007 &amp;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ge 50+ $12,5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x-sheltered annuities (TSAs 403b plan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plans that allow employees of not-for-profit organizations (churches, public schools, charitable organizations, etc.) to establish a retirement fund that is purchased and approved by the employ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ension Planning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ogh pla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r self-employed individuals in sole proprietorships, partnerships, and LLC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ibute up to the lesser of 100% of earned income or $46,000 for 200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um deductible contribution is up to 25% of compens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 both contribution and benefit amounts derived from the acc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5,000 limit on annual retirement benefit for 200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ension Planning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fit-sharing pla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established by employers who have determined that a portion of each dollar in profit will be allocated to the employees of the comp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nual contributions to these plans vary drastically because profits fluctuate due to economic, industry, and specific company heal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stand alone but are incorporated into other types of retirement pla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ension Planning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1k pla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retirement plans established to accept employee contribu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salary re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loyer may match a portion of employee contribution on some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for pretax contributions up to $15,000 per year. $20,000 for individuals 50 and abo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favor highly compensated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ension Planning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PLE 401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modification of th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1k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ed to firms with fewer than 100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loyee contribution limited to $15,000 per year, $20,000 if age 50 or ol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loyer can contribute up to 3% of worker’s compen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has to be the only plan the business o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loyers are spared from discrimination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ension Planning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ension Planning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954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h 401k pl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be established by an employ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ws tax-fr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after-tax mone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 contribution is $15,000 in 2006 and $20,000 if age 50 or ol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funds passed on the beneficiaries tax-fre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dentification of Risk Exposur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ing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 of service due to death or disability of the ow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 interruption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ney purchase pla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defined contribution plans that are established by the employer to contribute a fixed percentage of payroll into a retirement fund for the employe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um contribution is 25% of payro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loyee does not con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loyer must contribute even if company makes no prof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ension Planning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ock bonus pla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similar to profit-sharing plans, except that the employer contributes shares of stock, rather than money, into the retirement accou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loyer gets a deduction for the value of the sto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ibution is pre-tax dolla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ension Planning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Retirement Strategies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lish a goal, or minimum, income level that you desire when you reti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wait until you believe you can afford to start a retirement accou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 for capital preservation and continued grow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st in instruments that provide you with a degree of risk that is comfortable to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to invest the maximum amount, but never less than the amount that the employer uses to calculate profit-sharing or matching contribu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opening a Roth IRA even if you have an employer-sponsored pl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Retirement Strategie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state Planning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state plann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ethod of planning for use, conservation, and transfer of wealth as efficiently as poss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l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e written documents that provide direction to others as to how you want your wishes carried out after dea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b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a legal court process that addresses and focuses in on the will and the probate est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51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moving items from proba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int Ownership with right of survival (temporary removal) NOTE: The author recommend that children should not normally be part of Joint ownership with right of surviv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sts (permanent remo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ifts – reducing the value of the est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us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legal arrangements that actually divide legal and beneficial interests among two or more peo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a trust is set up during the life of the trustor, it is referred to as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ving tru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a trust is established at death, it is referred to as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stamentary tru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vocable tru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one in which the trustor has the right to cancel the trust during his or her life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rrevocable trus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one that is unalterable during a person’s life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state Planning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anagement of Risk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k management involves performing the management planning function in a manner that will reduce uncertainty. Methods incl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re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avoid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assum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sk redu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cludes programs that reduce risk. Examples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rinkler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ing up smo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esting in government secur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sk avoid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voiding any hazard which exposes the business to risk. An example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h-only sales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anagement of Risk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095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sk transf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ransferring risk to another party, usually a factor or insurance compan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sk assum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ccurs when you believe that the loss you might incur is less than the cost of risk avoidance or risk transf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anagement of Risk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6T00:36:06Z</dcterms:created>
  <dc:creator>Philip J. Adelman</dc:creator>
  <dc:description/>
  <dc:language>en-US</dc:language>
  <cp:lastModifiedBy>David McNaughton</cp:lastModifiedBy>
  <dcterms:modified xsi:type="dcterms:W3CDTF">2009-12-18T17:09:47Z</dcterms:modified>
  <cp:revision>98</cp:revision>
  <dc:subject/>
  <dc:title>No Slide Title</dc:title>
</cp:coreProperties>
</file>